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AAE-AC6A-444F-926F-6C7A4649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0E5-D141-461A-A9F8-581F6399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6F6-661C-47CE-A329-87556591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47F-D665-42D9-A4BF-709D5BE2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FA6-5D8D-4B56-B685-C13F74AB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A0B-F323-4A66-9404-4782130D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8D6-71FE-4733-884B-EF6C8DB6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585-DD48-42FB-A2A8-D5ABCC79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A1B-ECD6-418A-9BFD-4453E09F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FE0-899E-4143-9AE8-F1CE317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546-36FD-45D0-BE3D-F324D28E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BC8-8C12-4753-8B3C-F455B44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2842-B179-4166-9032-3F304A7DA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ebbaby.ru/calendar2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38088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Учимся определя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ремя по часам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124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атематика, 1-2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5224320" cy="400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57800" y="4114800"/>
            <a:ext cx="3581280" cy="241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итель начальных классов МОУ СОШ №49                  г. Волгограда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4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4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5029200" y="380880"/>
            <a:ext cx="380988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от цифры до цифры проходит                            за 5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617120" y="2434680"/>
            <a:ext cx="1891080" cy="2224080"/>
            <a:chOff x="1617120" y="2434680"/>
            <a:chExt cx="1891080" cy="2224080"/>
          </a:xfrm>
        </p:grpSpPr>
        <p:sp>
          <p:nvSpPr>
            <p:cNvPr id="152" name=""/>
            <p:cNvSpPr/>
            <p:nvPr/>
          </p:nvSpPr>
          <p:spPr>
            <a:xfrm rot="3217200">
              <a:off x="1574280" y="282132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 rot="14202000">
              <a:off x="2267280" y="367164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5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5029200" y="380880"/>
            <a:ext cx="3809880" cy="27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раза по 5 минут =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 мину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ворят: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 минут шес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1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1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658880" y="3582000"/>
            <a:ext cx="2846880" cy="736920"/>
            <a:chOff x="1658880" y="3582000"/>
            <a:chExt cx="2846880" cy="736920"/>
          </a:xfrm>
        </p:grpSpPr>
        <p:sp>
          <p:nvSpPr>
            <p:cNvPr id="162" name=""/>
            <p:cNvSpPr/>
            <p:nvPr/>
          </p:nvSpPr>
          <p:spPr>
            <a:xfrm rot="21484200">
              <a:off x="1666080" y="38217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 rot="10869000">
              <a:off x="2959200" y="359748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2067840" y="3355920"/>
            <a:ext cx="2207520" cy="925560"/>
            <a:chOff x="2067840" y="3355920"/>
            <a:chExt cx="2207520" cy="925560"/>
          </a:xfrm>
        </p:grpSpPr>
        <p:sp>
          <p:nvSpPr>
            <p:cNvPr id="165" name=""/>
            <p:cNvSpPr/>
            <p:nvPr/>
          </p:nvSpPr>
          <p:spPr>
            <a:xfrm rot="11592000">
              <a:off x="3112920" y="3693240"/>
              <a:ext cx="1123920" cy="465840"/>
            </a:xfrm>
            <a:prstGeom prst="leftArrow">
              <a:avLst>
                <a:gd name="adj1" fmla="val 50000"/>
                <a:gd name="adj2" fmla="val 603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rot="863400">
              <a:off x="2116800" y="3491640"/>
              <a:ext cx="1162800" cy="54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248520" y="3352680"/>
            <a:ext cx="235260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2078280" y="2756160"/>
            <a:ext cx="2028600" cy="2423520"/>
            <a:chOff x="2078280" y="2756160"/>
            <a:chExt cx="2028600" cy="2423520"/>
          </a:xfrm>
        </p:grpSpPr>
        <p:sp>
          <p:nvSpPr>
            <p:cNvPr id="169" name=""/>
            <p:cNvSpPr/>
            <p:nvPr/>
          </p:nvSpPr>
          <p:spPr>
            <a:xfrm rot="3304200">
              <a:off x="1973880" y="3221640"/>
              <a:ext cx="1377720" cy="463680"/>
            </a:xfrm>
            <a:prstGeom prst="leftArrow">
              <a:avLst>
                <a:gd name="adj1" fmla="val 50000"/>
                <a:gd name="adj2" fmla="val 74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 rot="14289000">
              <a:off x="2769480" y="4158720"/>
              <a:ext cx="145872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2842560" y="2847240"/>
            <a:ext cx="695880" cy="2150280"/>
            <a:chOff x="2842560" y="2847240"/>
            <a:chExt cx="695880" cy="2150280"/>
          </a:xfrm>
        </p:grpSpPr>
        <p:sp>
          <p:nvSpPr>
            <p:cNvPr id="172" name=""/>
            <p:cNvSpPr/>
            <p:nvPr/>
          </p:nvSpPr>
          <p:spPr>
            <a:xfrm rot="16678200">
              <a:off x="2592360" y="4230360"/>
              <a:ext cx="1064880" cy="421200"/>
            </a:xfrm>
            <a:prstGeom prst="leftArrow">
              <a:avLst>
                <a:gd name="adj1" fmla="val 50000"/>
                <a:gd name="adj2" fmla="val 632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 rot="6063000">
              <a:off x="2632320" y="320760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2597040" y="2816640"/>
            <a:ext cx="1272960" cy="2071440"/>
            <a:chOff x="2597040" y="2816640"/>
            <a:chExt cx="1272960" cy="2071440"/>
          </a:xfrm>
        </p:grpSpPr>
        <p:sp>
          <p:nvSpPr>
            <p:cNvPr id="175" name=""/>
            <p:cNvSpPr/>
            <p:nvPr/>
          </p:nvSpPr>
          <p:spPr>
            <a:xfrm rot="14811000">
              <a:off x="2934720" y="4105080"/>
              <a:ext cx="1064520" cy="421200"/>
            </a:xfrm>
            <a:prstGeom prst="leftArrow">
              <a:avLst>
                <a:gd name="adj1" fmla="val 50000"/>
                <a:gd name="adj2" fmla="val 631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7"/>
            <a:stretch/>
          </p:blipFill>
          <p:spPr>
            <a:xfrm rot="4195800">
              <a:off x="2450880" y="318924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2693520" y="2419560"/>
            <a:ext cx="747720" cy="2844720"/>
            <a:chOff x="2693520" y="2419560"/>
            <a:chExt cx="747720" cy="2844720"/>
          </a:xfrm>
        </p:grpSpPr>
        <p:sp>
          <p:nvSpPr>
            <p:cNvPr id="178" name=""/>
            <p:cNvSpPr/>
            <p:nvPr/>
          </p:nvSpPr>
          <p:spPr>
            <a:xfrm rot="5256600">
              <a:off x="2232360" y="29199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 rot="16240800">
              <a:off x="2393640" y="422280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5105520" y="1371600"/>
            <a:ext cx="3886200" cy="186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минут -                 не говорят.                        Говорят: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оло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1219320"/>
            <a:ext cx="396864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360800" y="2811240"/>
            <a:ext cx="1761480" cy="1867680"/>
            <a:chOff x="1360800" y="2811240"/>
            <a:chExt cx="1761480" cy="1867680"/>
          </a:xfrm>
        </p:grpSpPr>
        <p:sp>
          <p:nvSpPr>
            <p:cNvPr id="185" name=""/>
            <p:cNvSpPr/>
            <p:nvPr/>
          </p:nvSpPr>
          <p:spPr>
            <a:xfrm rot="7908600">
              <a:off x="2080440" y="310716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 rot="18893400">
              <a:off x="1405800" y="380304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1977840" y="2248560"/>
            <a:ext cx="594000" cy="3032280"/>
            <a:chOff x="1977840" y="2248560"/>
            <a:chExt cx="594000" cy="3032280"/>
          </a:xfrm>
        </p:grpSpPr>
        <p:sp>
          <p:nvSpPr>
            <p:cNvPr id="188" name=""/>
            <p:cNvSpPr/>
            <p:nvPr/>
          </p:nvSpPr>
          <p:spPr>
            <a:xfrm rot="5301600">
              <a:off x="1458720" y="2813040"/>
              <a:ext cx="1613520" cy="497880"/>
            </a:xfrm>
            <a:prstGeom prst="leftArrow">
              <a:avLst>
                <a:gd name="adj1" fmla="val 50000"/>
                <a:gd name="adj2" fmla="val 8102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4"/>
            <a:stretch/>
          </p:blipFill>
          <p:spPr>
            <a:xfrm rot="16172400">
              <a:off x="1439640" y="4153320"/>
              <a:ext cx="1669680" cy="58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72440" y="3305880"/>
            <a:ext cx="2183400" cy="1127880"/>
            <a:chOff x="1072440" y="3305880"/>
            <a:chExt cx="2183400" cy="1127880"/>
          </a:xfrm>
        </p:grpSpPr>
        <p:sp>
          <p:nvSpPr>
            <p:cNvPr id="192" name=""/>
            <p:cNvSpPr/>
            <p:nvPr/>
          </p:nvSpPr>
          <p:spPr>
            <a:xfrm rot="20624400">
              <a:off x="1128960" y="3739320"/>
              <a:ext cx="1061640" cy="556560"/>
            </a:xfrm>
            <a:prstGeom prst="leftArrow">
              <a:avLst>
                <a:gd name="adj1" fmla="val 50000"/>
                <a:gd name="adj2" fmla="val 476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 rot="10008600">
              <a:off x="2074680" y="3425760"/>
              <a:ext cx="112392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1396800" y="2985120"/>
            <a:ext cx="1908000" cy="1711440"/>
            <a:chOff x="1396800" y="2985120"/>
            <a:chExt cx="1908000" cy="1711440"/>
          </a:xfrm>
        </p:grpSpPr>
        <p:sp>
          <p:nvSpPr>
            <p:cNvPr id="195" name=""/>
            <p:cNvSpPr/>
            <p:nvPr/>
          </p:nvSpPr>
          <p:spPr>
            <a:xfrm rot="13159800">
              <a:off x="2236680" y="3920040"/>
              <a:ext cx="1022040" cy="510120"/>
            </a:xfrm>
            <a:prstGeom prst="leftArrow">
              <a:avLst>
                <a:gd name="adj1" fmla="val 50000"/>
                <a:gd name="adj2" fmla="val 500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 rot="2544600">
              <a:off x="1449720" y="3274200"/>
              <a:ext cx="1082160" cy="57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794960" y="2403000"/>
            <a:ext cx="1799640" cy="2275920"/>
            <a:chOff x="1794960" y="2403000"/>
            <a:chExt cx="1799640" cy="2275920"/>
          </a:xfrm>
        </p:grpSpPr>
        <p:sp>
          <p:nvSpPr>
            <p:cNvPr id="201" name=""/>
            <p:cNvSpPr/>
            <p:nvPr/>
          </p:nvSpPr>
          <p:spPr>
            <a:xfrm rot="14206800">
              <a:off x="2437920" y="377424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 rot="3591600">
              <a:off x="1723320" y="28170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2343600" y="1907640"/>
            <a:ext cx="667080" cy="3283920"/>
            <a:chOff x="2343600" y="1907640"/>
            <a:chExt cx="667080" cy="3283920"/>
          </a:xfrm>
        </p:grpSpPr>
        <p:sp>
          <p:nvSpPr>
            <p:cNvPr id="204" name=""/>
            <p:cNvSpPr/>
            <p:nvPr/>
          </p:nvSpPr>
          <p:spPr>
            <a:xfrm rot="16059000">
              <a:off x="1833480" y="403956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 rot="5330400">
              <a:off x="1774080" y="2501280"/>
              <a:ext cx="180432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5029200" y="228600"/>
            <a:ext cx="38098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минутная стрелка пересекла получасовую отметку, время называют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4400000">
                                      <p:cBhvr>
                                        <p:cTn id="16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16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589120" cy="3333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2003040" y="2341080"/>
            <a:ext cx="1383120" cy="2410920"/>
            <a:chOff x="2003040" y="2341080"/>
            <a:chExt cx="1383120" cy="2410920"/>
          </a:xfrm>
        </p:grpSpPr>
        <p:sp>
          <p:nvSpPr>
            <p:cNvPr id="211" name=""/>
            <p:cNvSpPr/>
            <p:nvPr/>
          </p:nvSpPr>
          <p:spPr>
            <a:xfrm rot="14962200">
              <a:off x="2323440" y="3836520"/>
              <a:ext cx="1218600" cy="510120"/>
            </a:xfrm>
            <a:prstGeom prst="leftArrow">
              <a:avLst>
                <a:gd name="adj1" fmla="val 50000"/>
                <a:gd name="adj2" fmla="val 5972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 rot="4347000">
              <a:off x="1827360" y="2754360"/>
              <a:ext cx="129024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"/>
          <p:cNvGrpSpPr/>
          <p:nvPr/>
        </p:nvGrpSpPr>
        <p:grpSpPr>
          <a:xfrm>
            <a:off x="1085760" y="2488680"/>
            <a:ext cx="3140640" cy="2099160"/>
            <a:chOff x="1085760" y="2488680"/>
            <a:chExt cx="3140640" cy="2099160"/>
          </a:xfrm>
        </p:grpSpPr>
        <p:sp>
          <p:nvSpPr>
            <p:cNvPr id="214" name=""/>
            <p:cNvSpPr/>
            <p:nvPr/>
          </p:nvSpPr>
          <p:spPr>
            <a:xfrm rot="8998200">
              <a:off x="2464560" y="288864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 rot="19869600">
              <a:off x="1125360" y="356292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5029200" y="228600"/>
            <a:ext cx="3809880" cy="173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1 часов 40 мину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или       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без двадцати двенадц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533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1676520"/>
            <a:ext cx="9144000" cy="3429000"/>
            <a:chOff x="0" y="1676520"/>
            <a:chExt cx="9144000" cy="3429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rcRect l="50539" t="49169" r="0" b="0"/>
            <a:stretch/>
          </p:blipFill>
          <p:spPr>
            <a:xfrm>
              <a:off x="0" y="1676520"/>
              <a:ext cx="22496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rcRect l="0" t="49169" r="49467" b="0"/>
            <a:stretch/>
          </p:blipFill>
          <p:spPr>
            <a:xfrm>
              <a:off x="6845400" y="1676520"/>
              <a:ext cx="22986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rcRect l="0" t="0" r="48232" b="50835"/>
            <a:stretch/>
          </p:blipFill>
          <p:spPr>
            <a:xfrm>
              <a:off x="2178000" y="1676520"/>
              <a:ext cx="24368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4572000" y="1676520"/>
              <a:ext cx="23572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523880" y="685800"/>
            <a:ext cx="60962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Arial"/>
              </a:rPr>
              <a:t>МОЛОДЕЦ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4343400" cy="320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82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1952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урсы Интерн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200" y="1219320"/>
            <a:ext cx="83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ebbaby.ru/calendar2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стих Ирины Гуриной «Забавные ча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3760" y="1752480"/>
            <a:ext cx="78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коллаж.net/photoscard/insert344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изображение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280"/>
            <a:ext cx="556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хо тикают ч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лки – длинные 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 за часом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 ходить совсем не л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323040" y="3463200"/>
            <a:ext cx="1266480" cy="1881000"/>
            <a:chOff x="6323040" y="3463200"/>
            <a:chExt cx="1266480" cy="1881000"/>
          </a:xfrm>
        </p:grpSpPr>
        <p:sp>
          <p:nvSpPr>
            <p:cNvPr id="50" name=""/>
            <p:cNvSpPr/>
            <p:nvPr/>
          </p:nvSpPr>
          <p:spPr>
            <a:xfrm rot="7350000">
              <a:off x="6683760" y="381168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rot="18334800">
              <a:off x="6248160" y="462600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5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глощёкий циферб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казать нам врем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ры – как весн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япка на мак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961240" y="3871800"/>
            <a:ext cx="1913760" cy="1189080"/>
            <a:chOff x="5961240" y="3871800"/>
            <a:chExt cx="1913760" cy="1189080"/>
          </a:xfrm>
        </p:grpSpPr>
        <p:sp>
          <p:nvSpPr>
            <p:cNvPr id="60" name=""/>
            <p:cNvSpPr/>
            <p:nvPr/>
          </p:nvSpPr>
          <p:spPr>
            <a:xfrm rot="1775400">
              <a:off x="5974560" y="4098240"/>
              <a:ext cx="1002600" cy="319680"/>
            </a:xfrm>
            <a:prstGeom prst="leftArrow">
              <a:avLst>
                <a:gd name="adj1" fmla="val 50000"/>
                <a:gd name="adj2" fmla="val 7840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 rot="12760200">
              <a:off x="6799680" y="4440960"/>
              <a:ext cx="106164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6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45720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шляпка в нуж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звенев, разбуд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к-так, тик-т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часов нельзя ник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5211720" y="2057400"/>
            <a:ext cx="36543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110280" y="3763800"/>
            <a:ext cx="1909080" cy="1202400"/>
            <a:chOff x="6110280" y="3763800"/>
            <a:chExt cx="1909080" cy="1202400"/>
          </a:xfrm>
        </p:grpSpPr>
        <p:sp>
          <p:nvSpPr>
            <p:cNvPr id="70" name=""/>
            <p:cNvSpPr/>
            <p:nvPr/>
          </p:nvSpPr>
          <p:spPr>
            <a:xfrm rot="12603600">
              <a:off x="7003800" y="4416480"/>
              <a:ext cx="1002600" cy="320040"/>
            </a:xfrm>
            <a:prstGeom prst="leftArrow">
              <a:avLst>
                <a:gd name="adj1" fmla="val 50000"/>
                <a:gd name="adj2" fmla="val 783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 rot="1988400">
              <a:off x="6122880" y="4024440"/>
              <a:ext cx="106164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790680" y="3106080"/>
            <a:ext cx="497520" cy="2688840"/>
            <a:chOff x="6790680" y="3106080"/>
            <a:chExt cx="497520" cy="2688840"/>
          </a:xfrm>
        </p:grpSpPr>
        <p:sp>
          <p:nvSpPr>
            <p:cNvPr id="73" name=""/>
            <p:cNvSpPr/>
            <p:nvPr/>
          </p:nvSpPr>
          <p:spPr>
            <a:xfrm rot="16158600">
              <a:off x="6288480" y="4866840"/>
              <a:ext cx="1436040" cy="414720"/>
            </a:xfrm>
            <a:prstGeom prst="leftArrow">
              <a:avLst>
                <a:gd name="adj1" fmla="val 50000"/>
                <a:gd name="adj2" fmla="val 865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 rot="5430000">
              <a:off x="6296760" y="3609000"/>
              <a:ext cx="1485720" cy="48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3568680"/>
            <a:ext cx="3429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79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82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952880" y="60948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ов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144792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утная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35" repeatCount="4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81480" y="304920"/>
            <a:ext cx="3505320" cy="265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утная стрелка делает полный оборо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 60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92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95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5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76920" y="380880"/>
            <a:ext cx="3962160" cy="228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овая стрелка за                       60 минут проходи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от одной цифры до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98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0" r="9059" b="0"/>
          <a:stretch/>
        </p:blipFill>
        <p:spPr>
          <a:xfrm>
            <a:off x="3429000" y="3960720"/>
            <a:ext cx="685800" cy="6667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04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07" name="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631" t="1565" r="3661" b="14793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113" name="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16" name="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334120" y="91440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 час = 60 ми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7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631" t="1565" r="3661" b="14793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2113560" y="3651480"/>
            <a:ext cx="2082240" cy="612360"/>
            <a:chOff x="2113560" y="3651480"/>
            <a:chExt cx="2082240" cy="612360"/>
          </a:xfrm>
        </p:grpSpPr>
        <p:sp>
          <p:nvSpPr>
            <p:cNvPr id="123" name=""/>
            <p:cNvSpPr/>
            <p:nvPr/>
          </p:nvSpPr>
          <p:spPr>
            <a:xfrm rot="21345000">
              <a:off x="2125800" y="38541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 rot="10729800">
              <a:off x="3067560" y="366264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2836440" y="2570040"/>
            <a:ext cx="544680" cy="2814840"/>
            <a:chOff x="2836440" y="2570040"/>
            <a:chExt cx="544680" cy="2814840"/>
          </a:xfrm>
        </p:grpSpPr>
        <p:sp>
          <p:nvSpPr>
            <p:cNvPr id="126" name=""/>
            <p:cNvSpPr/>
            <p:nvPr/>
          </p:nvSpPr>
          <p:spPr>
            <a:xfrm rot="16158600">
              <a:off x="2339640" y="4404240"/>
              <a:ext cx="1500480" cy="455400"/>
            </a:xfrm>
            <a:prstGeom prst="leftArrow">
              <a:avLst>
                <a:gd name="adj1" fmla="val 50000"/>
                <a:gd name="adj2" fmla="val 823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 rot="5430000">
              <a:off x="2332440" y="3083040"/>
              <a:ext cx="1552680" cy="53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638680" y="274320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768400" y="2877120"/>
            <a:ext cx="569160" cy="2078640"/>
            <a:chOff x="2768400" y="2877120"/>
            <a:chExt cx="569160" cy="2078640"/>
          </a:xfrm>
        </p:grpSpPr>
        <p:sp>
          <p:nvSpPr>
            <p:cNvPr id="130" name=""/>
            <p:cNvSpPr/>
            <p:nvPr/>
          </p:nvSpPr>
          <p:spPr>
            <a:xfrm rot="5220600">
              <a:off x="2450520" y="32313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 rot="16205400">
              <a:off x="2564280" y="41832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207880" y="3181320"/>
            <a:ext cx="1842480" cy="1629000"/>
            <a:chOff x="2207880" y="3181320"/>
            <a:chExt cx="1842480" cy="1629000"/>
          </a:xfrm>
        </p:grpSpPr>
        <p:sp>
          <p:nvSpPr>
            <p:cNvPr id="133" name=""/>
            <p:cNvSpPr/>
            <p:nvPr/>
          </p:nvSpPr>
          <p:spPr>
            <a:xfrm rot="19363200">
              <a:off x="2211480" y="415548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 rot="8748000">
              <a:off x="2905200" y="346068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2165400" y="3159720"/>
            <a:ext cx="1985400" cy="1430280"/>
            <a:chOff x="2165400" y="3159720"/>
            <a:chExt cx="1985400" cy="1430280"/>
          </a:xfrm>
        </p:grpSpPr>
        <p:sp>
          <p:nvSpPr>
            <p:cNvPr id="136" name=""/>
            <p:cNvSpPr/>
            <p:nvPr/>
          </p:nvSpPr>
          <p:spPr>
            <a:xfrm rot="12843600">
              <a:off x="3076200" y="3953160"/>
              <a:ext cx="1061640" cy="371160"/>
            </a:xfrm>
            <a:prstGeom prst="leftArrow">
              <a:avLst>
                <a:gd name="adj1" fmla="val 50000"/>
                <a:gd name="adj2" fmla="val 715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 rot="2227800">
              <a:off x="2178000" y="34560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5-01T16:07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